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F681-8C1E-43EE-99E3-9E4A3285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2C0-AFAE-419B-A429-41D65B50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9F8-7942-4520-AF08-09313B8B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152-5515-4CCD-A690-AA29D235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F301-82EF-4BA3-9516-105C2F95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6396-82BE-404D-BBAD-0FFF3DAA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B1AA-A12F-45AB-A3FC-CEA8E377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2AEF-2427-41E9-8157-FE58798E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4A2F-E73F-4AE5-ACCF-50A94D4E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CF20-325A-4A8C-B61C-B420BFA1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9051-F0F4-445A-B3FC-782846A7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EEF-52B5-4053-8F5E-079E2C33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2F49-16AB-4913-A729-60BA36B8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C806-B2ED-4927-BED2-7877F9A2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5FDC-FFA2-45A6-8A34-ED870F78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7868-E14A-45C7-B994-14DF8D79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C597-1028-4E5B-B9BB-5C0F105A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0C1A2-0886-456D-9849-75A783D4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C97DE-8137-4294-9DA2-19B6640D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CA1DA-2346-4D80-8B18-4F06B9F6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69B84-B714-44B7-B398-AFEE17EC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313EB-D185-42E2-AA95-3D8BB29D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2249-52BB-4C02-AF85-6C4387BE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A76F4-64EA-48D6-9ECC-A8CBF47B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EDD0D-EC51-4E82-B769-D49D679D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9D412-213C-425D-9652-DF36A626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F6B61-DDD2-4D0D-A8A1-1A29CFB2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B4595-3889-4D50-8D33-7D66A402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6810A-7D76-473D-9ADD-88097239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E82F6-0BFB-4D06-AE76-9FF5F1E6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CAD45-F2C1-499C-990D-14D7D1CC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BDAA4-378B-4157-A44B-B990A128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EA8B2-7725-425D-A109-1DFDE53D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8BB-B9F9-4586-A57D-51BD1845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F26C-302F-49EB-AC01-F6B3F80C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66F4-A83D-4A03-B79A-2F787FA6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1AE80-FB4E-4792-BCA6-6EE91109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B6718-041B-40FE-865B-08A78F39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378C6-08DC-4649-A5AB-57E755B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EE6EA-0BD7-4C18-B53B-75E701EB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8F82D-71B9-4155-A1AC-E08E19D5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82488-9CE1-4C8F-B56A-29C76CF4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E82D0-7D35-4D9D-8C15-6DE42502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E52F5-A1E1-4368-BF50-80FB7A0B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B5E-2CD3-4023-83EB-63B9693B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FB1DA-1D54-4066-8FF2-678C129F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8D0B6-067E-4A3F-BFEC-674D856E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ABD9B-3A0B-4B5F-BC80-2770CC2E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41978-7BF1-4D2C-82D8-FB9D29ED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D7FBA-74B8-4E01-994C-F123AE1A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74954-2B43-44B1-83C5-D33E02D9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C612F-2FAD-4E0F-ABF0-0F41FBD1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EEAE5-0114-4A7F-8BA1-63C9D66C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A9214-420E-48E8-A199-9767468B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E1D6F-7924-461F-A4DA-3869B2BB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022-BA22-4535-9506-09113CC6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AA4C7-17D1-4939-9BE7-81C1C3DE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B1094C-709C-48C4-AC33-417BC83E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4194DC-39F4-449C-BB70-0E1710FA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F87DD-DF8A-413F-A15F-A38635DF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0AE39-2019-496F-B2B4-7C8C96BF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251090-C092-4A64-804E-2BDE8750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19A6D-9876-417A-8AEE-30C4DAB8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9C3494-A5C3-4D67-B6E2-4D66DD17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DC0F7-C309-4CBE-9037-52EFAAC5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F76FC-D3E9-48AA-A78B-3EB43D4A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162-4784-44E3-8277-1ED5EE0F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2764D7-5424-44D8-A435-874A66D3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FE24C-0DC6-41E4-BF3C-7B8DC877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2AA09B-A996-499C-A7A9-79CF1D5A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8B5990-35B3-41B9-8627-2ED1F0CC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E45BD-18E0-41D2-BE4F-F73AEAC7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B6E521-174C-420F-8AA9-4028BC0D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32EFE2-8A5E-40E4-9BD8-31FB567A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3B8CEE-6B43-4358-8B30-80EABA32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92862D-25B2-4CBB-8CCC-904553D4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F87107-678B-4F06-B22C-E7AA4F20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7DB-2218-49E5-960E-A5A5BA80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2D39F3-5512-40B8-9389-70EE1DC2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151FE9-4EFA-49D8-ABEB-ADD38A81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4FB5B4-7C52-4C97-A477-F8413F1F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7AACA-C877-4487-93F6-0856BA7D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E6DAEC-6BF9-4165-8A6B-7FB004F5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F18-4402-45DD-8ED6-33A445F9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5A34-4E53-4A1C-A67C-49FA7C2AD7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EAAC-8B4B-4BC5-A95C-7984167D2E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001D-4A47-49B3-BC45-05EC7756DB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0EA1-0C4B-48B3-BBA7-3EA43C859F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1199-1663-407D-A3E7-ED54D2BD88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D91F-8EF8-41F3-8202-254E8190F2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4951-736C-49DD-98C0-B225CAF62D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hyperlink" Target="file:///D:\SACH Y HOC\UpToDate\contents\mobipreview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PATIENT PREPARATION BEFORE CONTRAST ENEMA IN HIRSCHSPRUNG DIAGNOSI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543440" y="6273360"/>
            <a:ext cx="16002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  <a:ea typeface="Calibri"/>
              </a:rPr>
              <a:t>21-01-201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FALSE NEGATIVE RESULT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Transition zone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Young infant (&lt;1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tal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leanse the colon in 24-48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catheter has been placed above the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Rectal sigmoid index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gital rectal examination 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413080" cy="3124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8194680" cy="1904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3"/>
          <a:stretch/>
        </p:blipFill>
        <p:spPr>
          <a:xfrm>
            <a:off x="3581280" y="533520"/>
            <a:ext cx="4276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CONGENITAL AGANGLIONIC MEGACOLON (HIRSCHSPRUNG DISEASE)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2666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is less sensitive than rectal suction biopsy and anorectal manometry for the diagnosis of HD (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table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[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"/>
              </a:rPr>
              <a:t>29,3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]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 digital rectal examination within a few days of the contrast enema may dilate the rectum and cause a false negative result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3" descr="UpToDate-20-146x180.jpg"/>
          <p:cNvPicPr/>
          <p:nvPr/>
        </p:nvPicPr>
        <p:blipFill>
          <a:blip r:embed="rId3"/>
          <a:stretch/>
        </p:blipFill>
        <p:spPr>
          <a:xfrm>
            <a:off x="380880" y="647640"/>
            <a:ext cx="139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CONSTIPATION IN CHILDREN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ETIOLOGY AND DIAGNOSIS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88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ants with significant constipation from the neonatal period, especially those with delayed passage of meconium — Perform a 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barium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 enem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("unprepped", ie, without measures to remove stool from the rectum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investigate the possibility of Hirschsprung disease 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3" descr="UpToDate-20-146x180.jpg"/>
          <p:cNvPicPr/>
          <p:nvPr/>
        </p:nvPicPr>
        <p:blipFill>
          <a:blip r:embed="rId2"/>
          <a:stretch/>
        </p:blipFill>
        <p:spPr>
          <a:xfrm>
            <a:off x="380880" y="571680"/>
            <a:ext cx="1390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colon preparation of any typ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etary restri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gital rectal examination with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CLUSI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tient preparation process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 enterocolitis or recent rectal biopsy: treat well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out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signs of clinical fecal stagnation: do unprepared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ith signs of clinical fecal stagnation: wash out or use laxatives to cleanse bowel, then stop at least 24h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REFERENC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iro Yoshida, Jr, MD. Hirschsprung Disease Imaging. Medscap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Kristin Fiorino, Chris A. Liacouras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. Nels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ne-Marie Dixon. The abdome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ediatic Radiograph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avid E Wesson, MD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. UpTo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Calibri"/>
                <a:ea typeface="Calibri"/>
              </a:rPr>
              <a:t>THANK YOU !!!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inical assess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agnostic te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OVERVIEW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irschspung disease (HD): congenital aganglionic megacol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iology: failure of migration of ganglion cells along the gastrointestinal tract during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rough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eeks of embryonic developmen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netic abnormality: del 10 (q11.21,q21.2), trisomy 18,2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/5000 children, male/female: 4/1 – 1/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ication: enterocolitis, sepsis, intestinal perfor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Rounded Rectangle 3"/>
          <p:cNvSpPr/>
          <p:nvPr/>
        </p:nvSpPr>
        <p:spPr>
          <a:xfrm>
            <a:off x="2971800" y="106668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uspected Hirschspru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Straight Connector 5"/>
          <p:cNvSpPr/>
          <p:nvPr/>
        </p:nvSpPr>
        <p:spPr>
          <a:xfrm>
            <a:off x="2209680" y="2057400"/>
            <a:ext cx="4267440" cy="1440"/>
          </a:xfrm>
          <a:prstGeom prst="line">
            <a:avLst/>
          </a:prstGeom>
          <a:ln w="255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0" name="Elbow Connector 20"/>
          <p:cNvCxnSpPr>
            <a:stCxn id="358" idx="2"/>
          </p:cNvCxnSpPr>
          <p:nvPr/>
        </p:nvCxnSpPr>
        <p:spPr>
          <a:xfrm flipH="1" rot="16200000">
            <a:off x="4323240" y="1885680"/>
            <a:ext cx="305640" cy="38520"/>
          </a:xfrm>
          <a:prstGeom prst="bentConnector3">
            <a:avLst>
              <a:gd name="adj1" fmla="val 96108"/>
            </a:avLst>
          </a:prstGeom>
          <a:ln w="25560">
            <a:solidFill>
              <a:srgbClr val="ff6903"/>
            </a:solidFill>
            <a:miter/>
          </a:ln>
        </p:spPr>
      </p:cxnSp>
      <p:cxnSp>
        <p:nvCxnSpPr>
          <p:cNvPr id="361" name="Straight Arrow Connector 24"/>
          <p:cNvCxnSpPr/>
          <p:nvPr/>
        </p:nvCxnSpPr>
        <p:spPr>
          <a:xfrm flipH="1">
            <a:off x="2208960" y="2057040"/>
            <a:ext cx="252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2" name="Straight Arrow Connector 25"/>
          <p:cNvCxnSpPr/>
          <p:nvPr/>
        </p:nvCxnSpPr>
        <p:spPr>
          <a:xfrm flipH="1">
            <a:off x="6476760" y="2057040"/>
            <a:ext cx="216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3" name="Rounded Rectangle 26"/>
          <p:cNvSpPr/>
          <p:nvPr/>
        </p:nvSpPr>
        <p:spPr>
          <a:xfrm>
            <a:off x="9907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Rounded Rectangle 27"/>
          <p:cNvSpPr/>
          <p:nvPr/>
        </p:nvSpPr>
        <p:spPr>
          <a:xfrm>
            <a:off x="51055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5" name="Straight Arrow Connector 28"/>
          <p:cNvCxnSpPr/>
          <p:nvPr/>
        </p:nvCxnSpPr>
        <p:spPr>
          <a:xfrm flipH="1">
            <a:off x="2208960" y="28954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6" name="Rounded Rectangle 30"/>
          <p:cNvSpPr/>
          <p:nvPr/>
        </p:nvSpPr>
        <p:spPr>
          <a:xfrm>
            <a:off x="304920" y="3352680"/>
            <a:ext cx="4419360" cy="11430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nterocolitis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ymp: fever, vomiting, diarrhea, abdominal distension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tool exam: RBC, WBC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lain xray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Straight Arrow Connector 32"/>
          <p:cNvCxnSpPr/>
          <p:nvPr/>
        </p:nvCxnSpPr>
        <p:spPr>
          <a:xfrm flipH="1">
            <a:off x="1294560" y="4495680"/>
            <a:ext cx="83916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8" name="Straight Arrow Connector 34"/>
          <p:cNvCxnSpPr/>
          <p:nvPr/>
        </p:nvCxnSpPr>
        <p:spPr>
          <a:xfrm>
            <a:off x="2133720" y="4495680"/>
            <a:ext cx="83880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9" name="TextBox 36"/>
          <p:cNvSpPr/>
          <p:nvPr/>
        </p:nvSpPr>
        <p:spPr>
          <a:xfrm>
            <a:off x="12193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TextBox 37"/>
          <p:cNvSpPr/>
          <p:nvPr/>
        </p:nvSpPr>
        <p:spPr>
          <a:xfrm>
            <a:off x="2590920" y="4495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Rounded Rectangle 38"/>
          <p:cNvSpPr/>
          <p:nvPr/>
        </p:nvSpPr>
        <p:spPr>
          <a:xfrm>
            <a:off x="304920" y="50292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Rounded Rectangle 39"/>
          <p:cNvSpPr/>
          <p:nvPr/>
        </p:nvSpPr>
        <p:spPr>
          <a:xfrm>
            <a:off x="2286000" y="5029200"/>
            <a:ext cx="236232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trast 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3" name="Straight Arrow Connector 41"/>
          <p:cNvCxnSpPr>
            <a:stCxn id="371" idx="3"/>
            <a:endCxn id="372" idx="1"/>
          </p:cNvCxnSpPr>
          <p:nvPr/>
        </p:nvCxnSpPr>
        <p:spPr>
          <a:xfrm>
            <a:off x="1905120" y="5257800"/>
            <a:ext cx="381600" cy="21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4" name="Straight Arrow Connector 42"/>
          <p:cNvCxnSpPr>
            <a:stCxn id="364" idx="2"/>
            <a:endCxn id="375" idx="0"/>
          </p:cNvCxnSpPr>
          <p:nvPr/>
        </p:nvCxnSpPr>
        <p:spPr>
          <a:xfrm flipH="1">
            <a:off x="6474600" y="2897280"/>
            <a:ext cx="3960" cy="9151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5" name="Rounded Rectangle 43"/>
          <p:cNvSpPr/>
          <p:nvPr/>
        </p:nvSpPr>
        <p:spPr>
          <a:xfrm>
            <a:off x="5105520" y="3809880"/>
            <a:ext cx="2743200" cy="6098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ain abdominal radiograp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6" name="Shape 49"/>
          <p:cNvCxnSpPr>
            <a:stCxn id="375" idx="2"/>
          </p:cNvCxnSpPr>
          <p:nvPr/>
        </p:nvCxnSpPr>
        <p:spPr>
          <a:xfrm rot="5400000">
            <a:off x="5028480" y="3810240"/>
            <a:ext cx="838800" cy="2057760"/>
          </a:xfrm>
          <a:prstGeom prst="bentConnector2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7" name="Straight Arrow Connector 50"/>
          <p:cNvCxnSpPr/>
          <p:nvPr/>
        </p:nvCxnSpPr>
        <p:spPr>
          <a:xfrm flipH="1">
            <a:off x="3123360" y="54100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8" name="Rounded Rectangle 51"/>
          <p:cNvSpPr/>
          <p:nvPr/>
        </p:nvSpPr>
        <p:spPr>
          <a:xfrm>
            <a:off x="2514600" y="586728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sult surg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TextBox 52"/>
          <p:cNvSpPr/>
          <p:nvPr/>
        </p:nvSpPr>
        <p:spPr>
          <a:xfrm>
            <a:off x="464832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 stool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wer rect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tipation, 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passage of meconium (&gt;= 48h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dominal disten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own’s syndr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ight anal canal and rectal vault, “squirt sign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longed constipation and none of these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initial diagnostic proced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iops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confirm the diag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SIG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Transition zon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normal, irregular contractions of aganglionic segment –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rectal sigmoid inde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ickening and nodularity of colonic mucosa proximal to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evacuation of bari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ixed barium-stool pattern on delayed radiograph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stended bowel loops on plain radiographs that almost fill after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Question mark–shaped colon in total colonic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386160" cy="43434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0720" y="5410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ransition zon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45" descr="Hirschsprung disease. Lateral view from a barium e"/>
          <p:cNvPicPr/>
          <p:nvPr/>
        </p:nvPicPr>
        <p:blipFill>
          <a:blip r:embed="rId2"/>
          <a:stretch/>
        </p:blipFill>
        <p:spPr>
          <a:xfrm>
            <a:off x="4724280" y="1219320"/>
            <a:ext cx="3988080" cy="320976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4800600" y="480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ctal sigmoid index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16:02:29Z</dcterms:created>
  <dc:creator>Win7</dc:creator>
  <dc:description/>
  <dc:language>en-US</dc:language>
  <cp:lastModifiedBy>AVENIS</cp:lastModifiedBy>
  <dcterms:modified xsi:type="dcterms:W3CDTF">2014-01-21T00:24:22Z</dcterms:modified>
  <cp:revision>68</cp:revision>
  <dc:subject/>
  <dc:title>ASSESSMENT FOR HIRSCHSPRUNG DISEASE AT</dc:title>
</cp:coreProperties>
</file>